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B247-9CA1-41C4-95EF-563B3FE4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E010-2C38-41EB-9D94-49324A58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A96A-04BB-49A5-911C-42D077B3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EBCD-5212-4EB9-A58F-556EF5D2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D1A-BC9E-438F-AA9A-DF591F08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66BB-136D-42A0-926A-21507C97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DD6-2C62-48FA-B6F8-09DCB5E5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9A4-B546-4B79-A985-5D15B2B9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F4D-C4BA-40D6-8A61-6A2EEE74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5FF-C0FC-46B9-8E13-1E85B1DE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BF13-2847-4FC2-9AF6-5ABC802D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C36-419D-4D8E-A859-6A6ACA25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DB4EA-5091-4A61-A4E3-F6EF13AE2EF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uld you prefer a coun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Each state is allowed to set its own laws on importan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 Where important laws were set by the federal government (and so they are consistent from state to stat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4396" r="0" b="0"/>
          <a:stretch/>
        </p:blipFill>
        <p:spPr>
          <a:xfrm>
            <a:off x="990720" y="1219320"/>
            <a:ext cx="7010280" cy="5194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on and Confederacy, 18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5335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Civil War Beg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4648320"/>
            <a:ext cx="67816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962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9528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t Sumter (186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419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4343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4724280"/>
            <a:ext cx="3812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6096240" cy="474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380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NORTH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S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4479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0 mill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7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3623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LES OF RAIL  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8,500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6,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352680"/>
            <a:ext cx="88390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port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4,500,000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6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tons – 185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572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ze of Army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.9 mill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1.2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55627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i="1" lang="en-US" sz="2400" spc="-1" strike="noStrike">
                <a:solidFill>
                  <a:srgbClr val="333399"/>
                </a:solidFill>
                <a:latin typeface="Arial Black"/>
              </a:rPr>
              <a:t>Unio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had 32 times the firearms production of the </a:t>
            </a:r>
            <a:r>
              <a:rPr b="0" i="1" lang="en-US" sz="2400" spc="-1" strike="noStrike">
                <a:solidFill>
                  <a:srgbClr val="808080"/>
                </a:solidFill>
                <a:latin typeface="Arial Black"/>
              </a:rPr>
              <a:t>Confederac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s’ Rights vs. Federal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la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the root cause of the Civil War, the biggest debate between North and South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whether slavery was a good or bad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ger debate was ab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uld decide laws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federal government make deci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should each state set its own la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itution states that the federal gov’t holds “supremacy” over the states in certain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dvantages of this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s’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tates claimed that the federal government was overstepping its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Carolina (in particular) threatened to nullify federal la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advantages of letting states decide their own la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sions in the cou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946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00120">
                <a:tc>
                  <a:txBody>
                    <a:bodyPr lIns="90000" rIns="90000" tIns="18432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st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432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st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1843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an Pa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industr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Slavery (for various reason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ed federal power (on issue of slavery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43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cratic Par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agricultural      (slave-based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-Slave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ed States’ Righ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9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idential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47920" y="533520"/>
            <a:ext cx="6248160" cy="93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Civil War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060720" cy="3809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52280" y="5867280"/>
            <a:ext cx="4086360" cy="552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cript MT Bold"/>
              </a:rPr>
              <a:t>Elected President 186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cript MT Bold"/>
              <a:ea typeface="Script MT Bold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342900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2590920"/>
            <a:ext cx="3429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cript MT Bold"/>
                <a:ea typeface="Times New Roman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South Carolina secedes from the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Mississippi, Florida, Alabama, Georgia, Louisiana, and Texas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Confederate States of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77680" y="1554120"/>
            <a:ext cx="18018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ttle flag of the Confeder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520" y="4479840"/>
            <a:ext cx="1554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fferson Davi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ident of the Confede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1600200"/>
            <a:ext cx="4014720" cy="452448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C.S.A. Constit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nstitution of negro slavery as it now exists in the Confederate States, shall be recognized and protected by Congr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440" y="1379520"/>
            <a:ext cx="2387520" cy="2387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468520" cy="26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6:40:59Z</dcterms:created>
  <dc:creator>Dominic Lambek</dc:creator>
  <dc:description/>
  <dc:language>en-US</dc:language>
  <cp:lastModifiedBy/>
  <dcterms:modified xsi:type="dcterms:W3CDTF">2014-06-03T17:39:05Z</dcterms:modified>
  <cp:revision>3</cp:revision>
  <dc:subject/>
  <dc:title>Presidential Election</dc:title>
</cp:coreProperties>
</file>